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272-50E8-40C7-B59D-90DBD413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F6B-0CFA-4E00-8704-214EEF0B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E24-168F-4270-BF39-3070F958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25B7-9667-4083-A91C-1DE58E8D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78E-E103-4355-9159-487AB790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DE5-0D06-429C-8F24-AC41ED23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32B-0937-4128-A9DD-EB0F4096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74D-4EBA-4157-83A9-19C8D5E7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3BE-B2A5-4CB1-953A-923BC254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5ED-A9C4-46E0-801E-74896C64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2F05-96C4-4191-8A5D-FA55FA5B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21E-55BF-40F3-A4FB-A68E9F66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78E0-B4E6-466D-881C-165EBC9E82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ednesday, September 10th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Radical Equa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Equations with one or more square root symbols in i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1d1cb"/>
                </a:solidFill>
                <a:latin typeface="Arial"/>
              </a:rPr>
              <a:t>Most radical equations are solved by isolating the square root to one side of the equation and then squaring both sides</a:t>
            </a:r>
            <a:endParaRPr b="0" lang="en-US" sz="55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1d1cb"/>
                </a:solidFill>
                <a:latin typeface="Arial"/>
              </a:rPr>
              <a:t>EXAMPLES</a:t>
            </a:r>
            <a:endParaRPr b="0" lang="en-US" sz="85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819520" y="1066680"/>
          <a:ext cx="39621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066680"/>
                    <a:ext cx="3962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362320" y="533520"/>
          <a:ext cx="43815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33520"/>
                    <a:ext cx="4381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14600" y="685800"/>
          <a:ext cx="41911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85800"/>
                    <a:ext cx="4191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286000" y="533520"/>
          <a:ext cx="47624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533520"/>
                    <a:ext cx="4762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1d1cb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d1d1cb"/>
                </a:solidFill>
                <a:latin typeface="Arial"/>
              </a:rPr>
              <a:t>worksheet</a:t>
            </a:r>
            <a:br>
              <a:rPr sz="8500"/>
            </a:br>
            <a:r>
              <a:rPr b="0" lang="en-US" sz="8500" spc="-1" strike="noStrike">
                <a:solidFill>
                  <a:srgbClr val="d1d1cb"/>
                </a:solidFill>
                <a:latin typeface="Arial"/>
              </a:rPr>
              <a:t>P.4 part four</a:t>
            </a:r>
            <a:endParaRPr b="0" lang="en-US" sz="85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68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68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68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Go over last night’s HW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-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2.  -1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3.  -4</a:t>
            </a:r>
            <a:br>
              <a:rPr sz="4000"/>
            </a:b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4.  5</a:t>
            </a:r>
            <a:br>
              <a:rPr sz="4000"/>
            </a:b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5.  10</a:t>
            </a:r>
            <a:br>
              <a:rPr sz="4000"/>
            </a:b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6.  12 and 3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7.  1 and -1.2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8.  4 and -5</a:t>
            </a:r>
            <a:br>
              <a:rPr sz="4000"/>
            </a:b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58:49Z</dcterms:created>
  <dc:creator>jnewman</dc:creator>
  <dc:description/>
  <dc:language>en-US</dc:language>
  <cp:lastModifiedBy>abeason</cp:lastModifiedBy>
  <dcterms:modified xsi:type="dcterms:W3CDTF">2008-09-10T16:33:17Z</dcterms:modified>
  <cp:revision>7</cp:revision>
  <dc:subject/>
  <dc:title>Thursday, September 13th</dc:title>
</cp:coreProperties>
</file>